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wmf" ContentType="image/x-wmf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DD64-A0A5-4088-92CD-E35DB70C0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AC4C-2560-47F5-A5DC-764956A16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58ED-A5AC-4FBD-A3B1-7D639B374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6B62-E465-4D17-8BE6-20355BFF6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DFE-EC98-4C67-8B99-C54E8FF5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425-82A4-4A8B-A508-B8D26B77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E348-1DF7-45EB-9DDC-C197A317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005-D9C5-47EC-89A7-CE8A56EC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CA1-6C71-4223-81AC-A88BC28D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CA6-A230-4B3D-82AD-EE2C645D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D57-9814-4F75-8D39-2101084D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59D-872D-40CF-A030-CFC8746B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C42-21B6-42C7-ADDD-0A02522A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EE6-EDAB-4E5C-AC59-A2EED86E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824-BB56-4DF1-A86D-F0631A66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1B8-374F-4203-AA5B-FAC697EE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0487-DACC-4F57-BFF5-C5B4B3E44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mall D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th Done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Xiao 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ruff asked if he could be one to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Recorded Sound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www.unbridledmartialarts.com/Working%20Documents/News/Rex%20Kwon%20Do%201.jpg"/>
          <p:cNvPicPr/>
          <p:nvPr/>
        </p:nvPicPr>
        <p:blipFill>
          <a:blip r:embed="rId2"/>
          <a:stretch/>
        </p:blipFill>
        <p:spPr>
          <a:xfrm>
            <a:off x="2971800" y="1143000"/>
            <a:ext cx="38862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ird said, “you are much too dirty to become a ninja!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1"/>
          <a:stretch/>
        </p:blipFill>
        <p:spPr>
          <a:xfrm>
            <a:off x="6477120" y="5181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sdonegan\Local Settings\Temporary Internet Files\Content.IE5\YUTPD0IJ\MCj04244680000[1].wmf"/>
          <p:cNvPicPr/>
          <p:nvPr/>
        </p:nvPicPr>
        <p:blipFill>
          <a:blip r:embed="rId2"/>
          <a:stretch/>
        </p:blipFill>
        <p:spPr>
          <a:xfrm>
            <a:off x="533520" y="1905120"/>
            <a:ext cx="44193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ruff said, “I’ll show you!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Recorded Sound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www.pethealth.com.au/images/Barking_Dog_Bored.JPG"/>
          <p:cNvPicPr/>
          <p:nvPr/>
        </p:nvPicPr>
        <p:blipFill>
          <a:blip r:embed="rId2"/>
          <a:stretch/>
        </p:blipFill>
        <p:spPr>
          <a:xfrm>
            <a:off x="2971800" y="1219320"/>
            <a:ext cx="28195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d laugh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blogs.msdn.com/blogfiles/socaldevgal/WindowsLiveWriter/YueMinjunLaughingArt_11385/laughingArtist%5B3%5D.jpg"/>
          <p:cNvPicPr/>
          <p:nvPr/>
        </p:nvPicPr>
        <p:blipFill>
          <a:blip r:embed="rId2"/>
          <a:stretch/>
        </p:blipFill>
        <p:spPr>
          <a:xfrm>
            <a:off x="2819520" y="1905120"/>
            <a:ext cx="3809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ruff ran o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51051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Recorded Sound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goldenledgekennel.com/unedited%20images/running%20dog.jpg"/>
          <p:cNvPicPr/>
          <p:nvPr/>
        </p:nvPicPr>
        <p:blipFill>
          <a:blip r:embed="rId2"/>
          <a:stretch/>
        </p:blipFill>
        <p:spPr>
          <a:xfrm>
            <a:off x="1828800" y="1828800"/>
            <a:ext cx="473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ame upon a ri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3760" y="2361960"/>
            <a:ext cx="33526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Recorded Sound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www.fs.fed.us/r9/hmnf/pages/Recreation/images/AuSable_River.JPG"/>
          <p:cNvPicPr/>
          <p:nvPr/>
        </p:nvPicPr>
        <p:blipFill>
          <a:blip r:embed="rId2"/>
          <a:stretch/>
        </p:blipFill>
        <p:spPr>
          <a:xfrm>
            <a:off x="228600" y="1219320"/>
            <a:ext cx="3686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jumped in and sw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Recorded Sound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www.newsday.com/media/photo/2007-09/32646828.jpg"/>
          <p:cNvPicPr/>
          <p:nvPr/>
        </p:nvPicPr>
        <p:blipFill>
          <a:blip r:embed="rId2"/>
          <a:stretch/>
        </p:blipFill>
        <p:spPr>
          <a:xfrm>
            <a:off x="2666880" y="1219320"/>
            <a:ext cx="42102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0988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s happy because he loved to sw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5105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Recorded Sound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60bits.net/dogs/AtlasInPoolPawUp200605b.jpg"/>
          <p:cNvPicPr/>
          <p:nvPr/>
        </p:nvPicPr>
        <p:blipFill>
          <a:blip r:embed="rId2"/>
          <a:stretch/>
        </p:blipFill>
        <p:spPr>
          <a:xfrm>
            <a:off x="4419720" y="1371600"/>
            <a:ext cx="45399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3920" y="274680"/>
            <a:ext cx="3962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he got out, he was clea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Recorded Sound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www.lavenderdoggifts.com/dog-bath-731935.jpg"/>
          <p:cNvPicPr/>
          <p:nvPr/>
        </p:nvPicPr>
        <p:blipFill>
          <a:blip r:embed="rId2"/>
          <a:stretch/>
        </p:blipFill>
        <p:spPr>
          <a:xfrm>
            <a:off x="1219320" y="380880"/>
            <a:ext cx="285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raced back and asked one again to be a nin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472428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Recorded Sound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Documents and Settings\sdonegan\Local Settings\Temporary Internet Files\Content.IE5\B1RNTORU\MCj04396050000[1].png"/>
          <p:cNvPicPr/>
          <p:nvPr/>
        </p:nvPicPr>
        <p:blipFill>
          <a:blip r:embed="rId2"/>
          <a:stretch/>
        </p:blipFill>
        <p:spPr>
          <a:xfrm>
            <a:off x="2362320" y="1676520"/>
            <a:ext cx="4190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small d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33440" y="2116080"/>
            <a:ext cx="4677120" cy="3495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1295280" y="5943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 yi ge xiao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d accep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533412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Recorded Sound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Documents and Settings\sdonegan\Local Settings\Temporary Internet Files\Content.IE5\YUTPD0IJ\MCj04244660000[1].wmf"/>
          <p:cNvPicPr/>
          <p:nvPr/>
        </p:nvPicPr>
        <p:blipFill>
          <a:blip r:embed="rId2"/>
          <a:stretch/>
        </p:blipFill>
        <p:spPr>
          <a:xfrm>
            <a:off x="3886200" y="1295280"/>
            <a:ext cx="449280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ruff became the best warrior in all the 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260880" y="1600200"/>
            <a:ext cx="262224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Recorded Sound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name was Scru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7920" y="4800600"/>
            <a:ext cx="723888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jiao Scru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Recorded Sound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bichonpomapoos.com/images/whitePuppy4.jpg"/>
          <p:cNvPicPr/>
          <p:nvPr/>
        </p:nvPicPr>
        <p:blipFill>
          <a:blip r:embed="rId2"/>
          <a:stretch/>
        </p:blipFill>
        <p:spPr>
          <a:xfrm>
            <a:off x="2438280" y="1143000"/>
            <a:ext cx="3810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was white but never could keep cle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890800" y="1600200"/>
            <a:ext cx="2604960" cy="3505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1981080" y="57150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 shi bai se de dan shi yong yuen bu gan 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he looked br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362320" y="2290680"/>
            <a:ext cx="4419360" cy="3143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2133720" y="5791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o yi ta kan chi li shi ka fei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cause he was dirty, he had no frie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2120" y="5029200"/>
            <a:ext cx="723888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 wei ta hen zhang ta mei yo pong y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Recorded Sound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http://nadeemchughtai.com/series4/never-alone_large.jpg"/>
          <p:cNvPicPr/>
          <p:nvPr/>
        </p:nvPicPr>
        <p:blipFill>
          <a:blip r:embed="rId2"/>
          <a:stretch/>
        </p:blipFill>
        <p:spPr>
          <a:xfrm>
            <a:off x="2057400" y="990720"/>
            <a:ext cx="42670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he was s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4495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o yi ta bu qui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orded Sound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www1.pgcps.org/uploadedImages/Schools_and_Centers/Middle_Schools/Benjamin_Tasker/SadFace.jpg"/>
          <p:cNvPicPr/>
          <p:nvPr/>
        </p:nvPicPr>
        <p:blipFill>
          <a:blip r:embed="rId2"/>
          <a:stretch/>
        </p:blipFill>
        <p:spPr>
          <a:xfrm>
            <a:off x="3962520" y="1447920"/>
            <a:ext cx="46195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day, he came across a bi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corded Sound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www.wildbirds.com/Portals/0/images/new%20bird.jpg"/>
          <p:cNvPicPr/>
          <p:nvPr/>
        </p:nvPicPr>
        <p:blipFill>
          <a:blip r:embed="rId2"/>
          <a:stretch/>
        </p:blipFill>
        <p:spPr>
          <a:xfrm>
            <a:off x="1295280" y="1676520"/>
            <a:ext cx="58388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d was a ni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63960" y="1600200"/>
            <a:ext cx="30160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7:06:01Z</dcterms:created>
  <dc:creator>itsuser</dc:creator>
  <dc:description/>
  <dc:language>en-US</dc:language>
  <cp:lastModifiedBy>itsuser</cp:lastModifiedBy>
  <dcterms:modified xsi:type="dcterms:W3CDTF">2009-04-09T16:17:59Z</dcterms:modified>
  <cp:revision>12</cp:revision>
  <dc:subject/>
  <dc:title>The small dog</dc:title>
</cp:coreProperties>
</file>